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18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E875-ECF1-4205-A67F-EB410A23F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7515-07F0-4B02-9A0A-2BBD1F6A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AAB6-02F7-4C46-B696-5DB0BBE1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D731-6D77-4C9D-B546-4EF28F0A8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7A94-78F3-40EB-875E-FBFB241CD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2EB2-8A85-47EF-8B09-196C977E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CDE9-9D53-430C-9CD0-C6F0D7E3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08DA-77EA-4047-A897-80D5AF47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8E8C-F294-4269-8B92-549E2D77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65D9-E5FE-4D16-948D-0253981F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812E-9806-4864-85B4-1A366918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31BD-4F0D-4DA5-B615-777E1D46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E750-9694-4A36-A394-EEC24E6C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ECEC-56FF-4270-A86F-B484FB20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B257-E5EC-477A-93AC-BC93EE5C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B675-9F7B-405B-9F6A-13659A66C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FAA8-B5B7-4B6C-86D5-A14DACA06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804A-5ECB-4454-9F89-6810A91F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CBEF-87DA-498D-B807-CC7AE1A0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1D20-F510-4118-B579-B6F074C3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1F58-E129-4DA6-B7AD-D909B661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F6E6-03C2-48A1-995C-9EE76320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BCFC-D2CD-4E18-B33C-527C4808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9C42-DBBE-4C88-85E8-4D3F8E41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D56A-DD23-4609-A2C4-D727397A27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9F77-E92B-4300-A376-BD9B6376E2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970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086600" cy="23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00"/>
                </a:solidFill>
                <a:latin typeface="Monotype Corsiva"/>
              </a:rPr>
              <a:t>«Исследование влияния факторов окружающей среды на здоровье детей»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556000" y="4652640"/>
            <a:ext cx="640080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тор проекта и презентаци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ник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«Б» класс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Сорокин Алексе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41528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Карта- схема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63640" y="1980720"/>
            <a:ext cx="309420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л. Малая (район АО «Щуровский цемент», «Завод ЖБК и СД», железная дорога, шоссе) – «грязный» район № 1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 ул Молодежная (район школы №30) – «условно грязный район» №2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 ул. Крупской (район Щуровской больницы) – это «условно чистый» район № 3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43520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8920" y="115920"/>
            <a:ext cx="7345440" cy="15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Загрязнение атмосферы крупными предприятиями г. Коломны и Коломенского района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258920" y="2060640"/>
          <a:ext cx="7273800" cy="467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060640"/>
                    <a:ext cx="7273800" cy="46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70580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Мониторинг за состоянием атмосферного воздуха в зонах промышленных предприятий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42920" y="2050920"/>
          <a:ext cx="7705800" cy="4157640"/>
        </p:xfrm>
        <a:graphic>
          <a:graphicData uri="http://schemas.openxmlformats.org/drawingml/2006/table">
            <a:tbl>
              <a:tblPr/>
              <a:tblGrid>
                <a:gridCol w="2570400"/>
                <a:gridCol w="2565360"/>
                <a:gridCol w="2570040"/>
              </a:tblGrid>
              <a:tr h="139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селенные пункт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бсолютный показатель кол-ва проб с превышение ПДК (шт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носительный показатель, превышающий ПДК, в %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грязный» район № 1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02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условно грязный» район №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02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условно чистый» район №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8560" y="115920"/>
            <a:ext cx="7561080" cy="144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Мониторинг за состоянием атмосферного воздуха в жилой зоне, расположенной вблизи автодороги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00000" y="2060640"/>
          <a:ext cx="7919640" cy="4157640"/>
        </p:xfrm>
        <a:graphic>
          <a:graphicData uri="http://schemas.openxmlformats.org/drawingml/2006/table">
            <a:tbl>
              <a:tblPr/>
              <a:tblGrid>
                <a:gridCol w="2961360"/>
                <a:gridCol w="2417760"/>
                <a:gridCol w="2540520"/>
              </a:tblGrid>
              <a:tr h="158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селенные пункт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бсолютный показател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а проб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 превышение ПДК (шт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носительный показатель, превышающий ПДК, в 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87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грязный» район № 1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95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условно грязный» район №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74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условно чистый» район № 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09640" y="333360"/>
            <a:ext cx="76485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Структура общей заболеваемости населения (%)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00000" y="1989000"/>
          <a:ext cx="7775640" cy="446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989000"/>
                    <a:ext cx="7775640" cy="44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971640" y="2060640"/>
          <a:ext cx="763272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060640"/>
                    <a:ext cx="763272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488360" cy="143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Структура онкологической заболеваемости населения Коломенского района (%)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7846920" cy="16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Динамика загрязнения воздушной среды промышленными предприятиями и автотранспортом (% отклонения от ПДК)</a:t>
            </a:r>
            <a:br>
              <a:rPr sz="2800"/>
            </a:br>
            <a:r>
              <a:rPr b="1" i="1" lang="en-US" sz="2400" spc="-1" strike="noStrike">
                <a:solidFill>
                  <a:srgbClr val="ffff00"/>
                </a:solidFill>
                <a:latin typeface="Garamond"/>
              </a:rPr>
              <a:t>( по данным СЭС)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39640" y="2492280"/>
          <a:ext cx="4824000" cy="3681360"/>
        </p:xfrm>
        <a:graphic>
          <a:graphicData uri="http://schemas.openxmlformats.org/drawingml/2006/table">
            <a:tbl>
              <a:tblPr/>
              <a:tblGrid>
                <a:gridCol w="1833840"/>
                <a:gridCol w="1049400"/>
                <a:gridCol w="1051920"/>
                <a:gridCol w="888840"/>
              </a:tblGrid>
              <a:tr h="9158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точник загряз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ы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мышлен-ные предприя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74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,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втотранспор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,8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,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,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435640" y="2421000"/>
          <a:ext cx="3544920" cy="377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2421000"/>
                    <a:ext cx="3544920" cy="37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3840" cy="144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Статистические данные по детской заболеваемости.</a:t>
            </a:r>
            <a:br>
              <a:rPr sz="3200"/>
            </a:br>
            <a:r>
              <a:rPr b="1" i="1" lang="ru-RU" sz="2400" spc="-1" strike="noStrike">
                <a:solidFill>
                  <a:srgbClr val="ffff00"/>
                </a:solidFill>
                <a:latin typeface="Garamond"/>
              </a:rPr>
              <a:t>(по данным Щуровской детской поликлиники)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971640" y="2133720"/>
          <a:ext cx="7714800" cy="4174920"/>
        </p:xfrm>
        <a:graphic>
          <a:graphicData uri="http://schemas.openxmlformats.org/drawingml/2006/table">
            <a:tbl>
              <a:tblPr/>
              <a:tblGrid>
                <a:gridCol w="3067560"/>
                <a:gridCol w="1621800"/>
                <a:gridCol w="1619280"/>
                <a:gridCol w="1406160"/>
              </a:tblGrid>
              <a:tr h="72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боле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5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нколог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рожденный порок сердц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72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ронхиальная аст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12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болевания верхних дыхательных пут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,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,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,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Динамика загрязнения воздушной среды промышленными предприятиями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(% отклонения от ПДК,</a:t>
            </a:r>
            <a:r>
              <a:rPr b="0" i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по данным СЭС)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759280" y="2492280"/>
          <a:ext cx="3384720" cy="337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59280" y="2492280"/>
                    <a:ext cx="3384720" cy="33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85800" y="2565360"/>
          <a:ext cx="4798800" cy="3260520"/>
        </p:xfrm>
        <a:graphic>
          <a:graphicData uri="http://schemas.openxmlformats.org/drawingml/2006/table">
            <a:tbl>
              <a:tblPr/>
              <a:tblGrid>
                <a:gridCol w="1451880"/>
                <a:gridCol w="1245960"/>
                <a:gridCol w="1012680"/>
                <a:gridCol w="1088280"/>
              </a:tblGrid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точник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грязне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–2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м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-прият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7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,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Статистические данные по детской заболеваемости.</a:t>
            </a:r>
            <a:br>
              <a:rPr sz="3200"/>
            </a:br>
            <a:r>
              <a:rPr b="1" i="1" lang="ru-RU" sz="2400" spc="-1" strike="noStrike">
                <a:solidFill>
                  <a:srgbClr val="ffff00"/>
                </a:solidFill>
                <a:latin typeface="Garamond"/>
              </a:rPr>
              <a:t>(по данным Щуровской детской поликлиники)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36560" y="1989000"/>
          <a:ext cx="3792600" cy="22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989000"/>
                    <a:ext cx="3792600" cy="22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932360" y="1990800"/>
          <a:ext cx="3887640" cy="22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990800"/>
                    <a:ext cx="3887640" cy="22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755640" y="4363920"/>
          <a:ext cx="3745080" cy="210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4363920"/>
                    <a:ext cx="374508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4932360" y="4365720"/>
          <a:ext cx="3887640" cy="208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32360" y="4365720"/>
                    <a:ext cx="388764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33320" y="189000"/>
            <a:ext cx="7724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По данным Всемирной организации здравоохранения загрязнение атмосферного воздуха вызывает среди детей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еспираторных заболеваний - 7-10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болевания легких – 3 – 7 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ронхиальная астма – 3 –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Динамика загрязнения воздушной среды автотранспортом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(% отклонения от ПДК, </a:t>
            </a:r>
            <a:r>
              <a:rPr b="0" i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по данным СЭС)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111640" y="2708280"/>
          <a:ext cx="4032360" cy="31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1640" y="2708280"/>
                    <a:ext cx="4032360" cy="31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539640" y="2708280"/>
          <a:ext cx="4248360" cy="3168720"/>
        </p:xfrm>
        <a:graphic>
          <a:graphicData uri="http://schemas.openxmlformats.org/drawingml/2006/table">
            <a:tbl>
              <a:tblPr/>
              <a:tblGrid>
                <a:gridCol w="1224000"/>
                <a:gridCol w="1152720"/>
                <a:gridCol w="963360"/>
                <a:gridCol w="908280"/>
              </a:tblGrid>
              <a:tr h="197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точ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к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гряз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вто-тран-спор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,8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,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,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Динамика загрязнения воздушной среды промышленными предприятиями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(% отклонения от ПДК,</a:t>
            </a:r>
            <a:r>
              <a:rPr b="0" i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по данным СЭС)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759280" y="2492280"/>
          <a:ext cx="3384720" cy="337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59280" y="2492280"/>
                    <a:ext cx="3384720" cy="33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685800" y="2565360"/>
          <a:ext cx="4798800" cy="3260520"/>
        </p:xfrm>
        <a:graphic>
          <a:graphicData uri="http://schemas.openxmlformats.org/drawingml/2006/table">
            <a:tbl>
              <a:tblPr/>
              <a:tblGrid>
                <a:gridCol w="1451880"/>
                <a:gridCol w="1245960"/>
                <a:gridCol w="1012680"/>
                <a:gridCol w="1088280"/>
              </a:tblGrid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точник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грязне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0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м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-прият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7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,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В ходе проведенного исследования было установлено следующее: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5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Загрязнение атмосферного воздуха вызывает отклонения в состоянии здоровья дете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В ходе проведенного исследования было установлено следующее: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82040" cy="101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Диспансерное наблюдение детей выявило, что в «грязном» районе число часто болеющих детей на 31,7% больше, чем в «условно чистом» районе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182680" y="3573360"/>
          <a:ext cx="4562640" cy="294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2680" y="3573360"/>
                    <a:ext cx="4562640" cy="29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4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В ходе проведенного исследования было установлено следующее: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87280" y="2133720"/>
            <a:ext cx="7056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Из данных мониторинга следует, что анализов, превышающих ПДК, в «грязном» районе №1 на 21,6% больше, чем в «условно чистом» районе №3, и на 16,2% больше, чем в «условно грязном» районе №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835280" y="3754440"/>
          <a:ext cx="5761080" cy="27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3754440"/>
                    <a:ext cx="5761080" cy="27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В ходе проведенного исследования было установлено следующее: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30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 снижении загрязнения на 5,3%, кол-во общих детских заболеваний снижается на 2,7%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247760" y="3500280"/>
          <a:ext cx="7069320" cy="28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7760" y="3500280"/>
                    <a:ext cx="7069320" cy="28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6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4865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В ходе исследования рабочая гипотеза подтвердилась: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грязнение воздуха промышленными предприятиями и автотранспортом приводит к ухудшению здоровья детей, что проявляется в увеличении количества заболеваний верхних дыхательных путей, осложнений бронхиальной астмы, увеличении врожденных пороков сердца, а также онкологических заболеваний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91856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В качестве рекомендаций можно предложить следующее:</a:t>
            </a:r>
            <a:r>
              <a:rPr b="0" lang="en-US" sz="48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42640" y="2060280"/>
            <a:ext cx="789300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величить площади зеленых насаждени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силить контроль со стороны центра Госсанэпиднадзора за соблюдением автопредприятиями требований ГОСТов и других документов по техническому состоянию выпускаемых на линию автомашин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егулярно проводить реконструкции устаревших  электрофильтров и прочих очистительных сооружени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вести более строгий контроль за выбросами промышленных предприятий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держивать использование технологий, оказывающих наименьшее влияние на экологическую обстановку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е допускать ухода от ответственности за нарушение законодательства в области охраны окружающей среды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8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" dur="2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000"/>
                            </p:stCondLst>
                            <p:childTnLst>
                              <p:par>
                                <p:cTn id="2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6" dur="2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8000"/>
                            </p:stCondLst>
                            <p:childTnLst>
                              <p:par>
                                <p:cTn id="2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20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" dur="20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874872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1" lang="en-US" sz="7200" spc="-1" strike="noStrike">
                <a:solidFill>
                  <a:srgbClr val="ff3300"/>
                </a:solidFill>
                <a:latin typeface="Monotype Corsiva"/>
              </a:rPr>
              <a:t>Спасибо за внимание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600"/>
                            </p:stCondLst>
                            <p:childTnLst>
                              <p:par>
                                <p:cTn id="295" nodeType="afterEffect" fill="hold" presetClass="exit" presetID="45">
                                  <p:stCondLst>
                                    <p:cond delay="2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6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640" y="609480"/>
            <a:ext cx="7486560" cy="10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Предмет исследования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42920" y="2276640"/>
            <a:ext cx="787248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зучение здоровья детей в условиях интенсивного промышленного и автотранспортного загрязнения атмосферного воздух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Объект исследования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42920" y="1790280"/>
            <a:ext cx="78724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Здоровье дете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тмосферный возду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Цель исследования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2920" y="2276280"/>
            <a:ext cx="7872480" cy="389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зучение степени влияния антропогенного загрязнения атмосферы на здоровье дете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Гипотеза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5640" y="2060280"/>
            <a:ext cx="7799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Загрязнение воздуха промышленными предприятиями и автотранспортом приводит к ухудшению здоровья детей.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Задач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учить статистический материал, предоставленный городской санитарно-эпидемической станцией и Щуровской детской  поликлиникой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явить взаимосвязь между состоянием здоровья детей и средой обитан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авнить влияние антропогенного воздействия на различных территориях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Методы, используемые для решения поставленных задач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801200" cy="324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етод статистического анализа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ониторинг за состоянием атмосферного воздух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63272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Прибор – «Система экологического мониторинга Air Inspector™»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1792440"/>
            <a:ext cx="813744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18:11:27Z</dcterms:created>
  <dc:creator>abc</dc:creator>
  <dc:description/>
  <dc:language>en-US</dc:language>
  <cp:lastModifiedBy>phaser</cp:lastModifiedBy>
  <dcterms:modified xsi:type="dcterms:W3CDTF">2008-10-22T19:01:58Z</dcterms:modified>
  <cp:revision>72</cp:revision>
  <dc:subject/>
  <dc:title>«Исследование влияния факторов окружающей среды на здоровье детей»</dc:title>
</cp:coreProperties>
</file>